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4C70-2C98-4580-86D4-0A406F370CE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B3BA-7716-41BF-A2C5-CDC08DBCAE3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1DB7-0CF1-4071-9AE8-77F89A24E09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D7F8-AA34-4638-8F3F-520DEF4CE2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D01F7-B646-47DC-B951-6812019358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4675-D681-4EDB-8BDD-AEDD0BF1485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46D3-7D3E-4673-9AEF-E9928C30781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71DCB-7175-40CD-B3D8-349585A81EE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BD57-8947-44DE-A2CD-E36FE41BC43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28A-CD15-43ED-A4E0-9DB69D76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CDEC-A103-4EF1-B700-0BD450BF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7A1C-A971-42AB-A47F-B7485EFE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E97-2E2D-4453-A63F-D4BEDCBA7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EB71-5A83-4382-9AD0-F23DC9B94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BDE5-8DFE-497F-99DF-0C0025BE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5DEF-32A2-4D2A-BE58-ABEFDC7B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3411-09C4-4C0C-B1E7-991312B6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8340-A6B4-4E56-A301-0EAD2940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96E-E6D6-48D8-9844-503BED65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EC3E-8C7A-4A15-8CEE-0CC62445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862-E75C-4CF4-AD32-2AEB8E77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83DA-EBB9-4A54-8ED3-C0B324563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84DD-B863-42AF-B118-77574E5B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5B9F3-64AA-43CB-94BD-17BAD5D8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9D7D-4A61-464B-BCA4-A9193B19F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C317-4257-4173-B2ED-1DC908188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5682-ED3A-4261-85BE-B28179E5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EA5-9F99-485B-8600-9680FCAE7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1647-E6BC-48CB-926A-DFFA41D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DCAA-E6EC-44B3-87A3-79D8E82B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4AEE-85A0-484D-8C3E-534AF370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A491-B571-4C13-8578-D9B47090F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F7A7-C180-4253-96AE-08EF3AE4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2050-C1C9-44C2-A8DB-6F2A6AFE7C1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EB5-100A-49ED-8536-176043AB3C9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niid.lv/" TargetMode="External"/><Relationship Id="rId2" Type="http://schemas.openxmlformats.org/officeDocument/2006/relationships/hyperlink" Target="http://www.profesijupasaule.lv/" TargetMode="External"/><Relationship Id="rId3" Type="http://schemas.openxmlformats.org/officeDocument/2006/relationships/hyperlink" Target="http://www.viaa.gov.lv/lat/karjeras_atbalsts/euroguidance_sadala/kad_zinu_izdevumi/" TargetMode="External"/><Relationship Id="rId4" Type="http://schemas.openxmlformats.org/officeDocument/2006/relationships/hyperlink" Target="http://www.prakse.lv/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niid.lv/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Zini informācijas resursu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 – 7. klašu jaunieš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ETEIKUMI INFORMĀCIJAS MEKLĒŠANA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irms sāc meklēt informāciju – saplāno, ko tieši tu gribi atrast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Izmanto dažādus informācijas avotus, lai iegūtu pēc iespējas plašāku informāciju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ārbaudi informācijas precizitāti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pēc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08000" y="155736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grāmatas un metodika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Veido savu karjeru pats!”, grāmata patstāvīgai profesijas izvēlei”; “„Kurš mācību priekšmets man patīk vislabāk? Padomi veiksmīgai karjeras izvēlei”; karjeras izvēles testi internetā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academic,books,calculators,educations,homework,kids,pencils,people,students,studies,thinking"/>
          <p:cNvPicPr/>
          <p:nvPr/>
        </p:nvPicPr>
        <p:blipFill>
          <a:blip r:embed="rId1"/>
          <a:stretch/>
        </p:blipFill>
        <p:spPr>
          <a:xfrm>
            <a:off x="7885080" y="3860640"/>
            <a:ext cx="122256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7"/>
          <p:cNvSpPr/>
          <p:nvPr/>
        </p:nvSpPr>
        <p:spPr>
          <a:xfrm>
            <a:off x="39528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UZZINĀT PAR IZGLĪTĪBAS IESPĒJĀM UN PROFESI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8000" y="1413000"/>
            <a:ext cx="892800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tIns="0" anchor="t">
            <a:normAutofit fontScale="99000"/>
          </a:bodyPr>
          <a:p>
            <a:pPr marL="339480" indent="-339480"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taujājot cilvēku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esošos un bijušos studentus, profesionāļus, paziņas, radiniekus u.c. 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nternetā:</a:t>
            </a:r>
            <a:endParaRPr b="0" lang="en-US" sz="26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pēju vai darba sludinājumu datubāze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izglītības iestāžu mājaslapās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twitter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, </a:t>
            </a:r>
            <a:r>
              <a:rPr b="0" i="1" lang="lv-LV" sz="2200" spc="-1" strike="noStrike">
                <a:solidFill>
                  <a:srgbClr val="006a7b"/>
                </a:solidFill>
                <a:latin typeface="Calibri"/>
              </a:rPr>
              <a:t>facebook</a:t>
            </a: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 profilo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Aft>
                <a:spcPts val="300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jauniešu un nevalstisko organizāciju mājaslapā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lvl="1" marL="735480" indent="-28296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6a7b"/>
                </a:solidFill>
                <a:latin typeface="Calibri"/>
              </a:rPr>
              <a:t>uzņēmumu vai profesionālo asociāciju mājaslapās u.c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Grāmat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ju aprakstu katalogs”) </a:t>
            </a: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un  preses izdevumo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Diena”, “Dienas bizness”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201"/>
              </a:spcBef>
              <a:spcAft>
                <a:spcPts val="7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Videofilmās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(piem., “Profesionālās darbības jomas Latvijā”, “Karjeras un izglītības iespējas meža nozarē” u.c.)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2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6a7b"/>
                </a:solidFill>
                <a:latin typeface="Calibri"/>
              </a:rPr>
              <a:t>Izpētot uz vietas – </a:t>
            </a:r>
            <a:r>
              <a:rPr b="0" lang="lv-LV" sz="2400" spc="-1" strike="noStrike">
                <a:solidFill>
                  <a:srgbClr val="006a7b"/>
                </a:solidFill>
                <a:latin typeface="Calibri"/>
              </a:rPr>
              <a:t>Skola 2013, atvērto durvju dienas, ēnu dienas, “viltus students” un “viltus klients”...</a:t>
            </a:r>
            <a:endParaRPr b="0" lang="en-US" sz="24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4" name="Picture 5" descr="communications,computer hardware,connectivity,Earth,globes,Internet,maps,metaphors,monitors,networking,networks,office,PCS,planets,science,technology,World Wide Web,worlds,WWW"/>
          <p:cNvPicPr/>
          <p:nvPr/>
        </p:nvPicPr>
        <p:blipFill>
          <a:blip r:embed="rId1"/>
          <a:stretch/>
        </p:blipFill>
        <p:spPr>
          <a:xfrm>
            <a:off x="7451640" y="2565360"/>
            <a:ext cx="1368360" cy="13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507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DARĪT AR APKOPOTO INFORMĀCIJ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līdzināt ar sākotnējo plānu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visa nepieciešamā informācij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vai ir parādījušies jauni izpētes ceļ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zanalizēt, lai atmestu lieko un izceltu būtisko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t rezultātus ar cit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7" name="Picture 5" descr="business,businessmen,businesswomen,documents,females,looking,males,men,papers,people,persons,plans,reviewing,women"/>
          <p:cNvPicPr/>
          <p:nvPr/>
        </p:nvPicPr>
        <p:blipFill>
          <a:blip r:embed="rId1"/>
          <a:srcRect l="0" t="9303" r="0" b="11606"/>
          <a:stretch/>
        </p:blipFill>
        <p:spPr>
          <a:xfrm>
            <a:off x="6300720" y="4221000"/>
            <a:ext cx="230364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3"/>
          <p:cNvSpPr/>
          <p:nvPr/>
        </p:nvSpPr>
        <p:spPr>
          <a:xfrm>
            <a:off x="6372360" y="6237360"/>
            <a:ext cx="1368360" cy="50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3" descr=""/>
          <p:cNvPicPr/>
          <p:nvPr/>
        </p:nvPicPr>
        <p:blipFill>
          <a:blip r:embed="rId1"/>
          <a:stretch/>
        </p:blipFill>
        <p:spPr>
          <a:xfrm>
            <a:off x="219564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1341360"/>
            <a:ext cx="8675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acionālā izglītības iespēju datubāz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niid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ortāls “Profesiju Pasaule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profesijupasaule.lv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Eiropas Komisijas informācijas apmaiņas un konsultāciju tīkls EUROGUIDANCE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viaa.gov.lv/lat/karjeras_atbalsts/euroguidance_sadala/kad_zinu_izdevumi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“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Jauniešu konsultācijas” 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prakse.lv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1"/>
          <a:srcRect l="13668" t="10626" r="16544" b="11833"/>
          <a:stretch/>
        </p:blipFill>
        <p:spPr>
          <a:xfrm>
            <a:off x="1908000" y="1420920"/>
            <a:ext cx="5904000" cy="524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7640" y="2924280"/>
            <a:ext cx="1368360" cy="43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tājs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4" name="Text Placeholder 2"/>
          <p:cNvSpPr/>
          <p:nvPr/>
        </p:nvSpPr>
        <p:spPr>
          <a:xfrm>
            <a:off x="108000" y="3860640"/>
            <a:ext cx="1800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Meklēšanas sagat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>
            <a:off x="1332000" y="3141720"/>
            <a:ext cx="1080000" cy="216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36" name="Straight Arrow Connector 10"/>
          <p:cNvCxnSpPr/>
          <p:nvPr/>
        </p:nvCxnSpPr>
        <p:spPr>
          <a:xfrm flipV="1">
            <a:off x="1618920" y="3715560"/>
            <a:ext cx="2377080" cy="738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7" name="Text Placeholder 2"/>
          <p:cNvSpPr/>
          <p:nvPr/>
        </p:nvSpPr>
        <p:spPr>
          <a:xfrm>
            <a:off x="7596360" y="3357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zglītības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Straight Arrow Connector 12"/>
          <p:cNvCxnSpPr/>
          <p:nvPr/>
        </p:nvCxnSpPr>
        <p:spPr>
          <a:xfrm flipH="1">
            <a:off x="6803640" y="3716280"/>
            <a:ext cx="1008720" cy="5054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39" name="Text Placeholder 2"/>
          <p:cNvSpPr/>
          <p:nvPr/>
        </p:nvSpPr>
        <p:spPr>
          <a:xfrm>
            <a:off x="108000" y="537372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Aktuālā informāc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Straight Arrow Connector 17"/>
          <p:cNvCxnSpPr/>
          <p:nvPr/>
        </p:nvCxnSpPr>
        <p:spPr>
          <a:xfrm>
            <a:off x="1402920" y="5444640"/>
            <a:ext cx="57708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1" name="Text Placeholder 2"/>
          <p:cNvSpPr/>
          <p:nvPr/>
        </p:nvSpPr>
        <p:spPr>
          <a:xfrm>
            <a:off x="6516720" y="551664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Iespēja saņemt e-konsultācij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0"/>
          <p:cNvCxnSpPr/>
          <p:nvPr/>
        </p:nvCxnSpPr>
        <p:spPr>
          <a:xfrm flipH="1" flipV="1">
            <a:off x="5866920" y="5876280"/>
            <a:ext cx="721440" cy="10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ACIONĀLĀ IZGLĪTĪBAS IESPĒJU DATUBĀZE</a:t>
            </a:r>
            <a:br>
              <a:rPr sz="3600"/>
            </a:br>
            <a:r>
              <a:rPr b="0" lang="lv-LV" sz="2800" spc="-1" strike="noStrike" u="sng">
                <a:solidFill>
                  <a:srgbClr val="0000ff"/>
                </a:solidFill>
                <a:uFillTx/>
                <a:latin typeface="Arial Narrow"/>
                <a:hlinkClick r:id="rId2"/>
              </a:rPr>
              <a:t>WWW.NIID.LV</a:t>
            </a:r>
            <a:r>
              <a:rPr b="1" lang="lv-LV" sz="24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lv-LV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4" name="Straight Arrow Connector 13"/>
          <p:cNvCxnSpPr/>
          <p:nvPr/>
        </p:nvCxnSpPr>
        <p:spPr>
          <a:xfrm flipH="1" flipV="1">
            <a:off x="6803280" y="4436280"/>
            <a:ext cx="864360" cy="723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145" name="Text Placeholder 2"/>
          <p:cNvSpPr/>
          <p:nvPr/>
        </p:nvSpPr>
        <p:spPr>
          <a:xfrm>
            <a:off x="7596360" y="4508640"/>
            <a:ext cx="1547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31859c"/>
                </a:solidFill>
                <a:latin typeface="Arial"/>
              </a:rPr>
              <a:t>Testi karjeras izvēl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0" y="525600"/>
            <a:ext cx="914400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</a:rPr>
              <a:t>PROFESIJU PASAU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ofesijupasaule.lv</a:t>
            </a: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rcRect l="4524" t="6784" r="5031" b="18603"/>
          <a:stretch/>
        </p:blipFill>
        <p:spPr>
          <a:xfrm>
            <a:off x="324000" y="1413000"/>
            <a:ext cx="8250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8" descr=""/>
          <p:cNvPicPr/>
          <p:nvPr/>
        </p:nvPicPr>
        <p:blipFill>
          <a:blip r:embed="rId1"/>
          <a:srcRect l="0" t="5178" r="15083" b="2916"/>
          <a:stretch/>
        </p:blipFill>
        <p:spPr>
          <a:xfrm>
            <a:off x="1476360" y="1413000"/>
            <a:ext cx="6288120" cy="5445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9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EUROGUIDANCE TĪKLA LATVIJAS NODAĻA</a:t>
            </a:r>
            <a:br>
              <a:rPr sz="3200"/>
            </a:br>
            <a:r>
              <a:rPr b="0" lang="lv-LV" sz="1800" spc="-1" strike="noStrike" u="sng">
                <a:solidFill>
                  <a:srgbClr val="17375e"/>
                </a:solidFill>
                <a:uFillTx/>
                <a:latin typeface="Calibri"/>
              </a:rPr>
              <a:t>http://www.viaa.gov.lv/lat/karjeras_atbalsts/euroguidance_sadala/kad_zinu_izdevumi/ </a:t>
            </a:r>
            <a:r>
              <a:rPr b="1" i="1" lang="lv-LV" sz="1800" spc="-1" strike="noStrike">
                <a:solidFill>
                  <a:srgbClr val="17375e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1763640" y="6021360"/>
            <a:ext cx="935280" cy="2872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5"/>
          <p:cNvSpPr/>
          <p:nvPr/>
        </p:nvSpPr>
        <p:spPr>
          <a:xfrm>
            <a:off x="1619280" y="5805360"/>
            <a:ext cx="865080" cy="21600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"/>
          <p:cNvSpPr/>
          <p:nvPr/>
        </p:nvSpPr>
        <p:spPr>
          <a:xfrm>
            <a:off x="4716360" y="1916280"/>
            <a:ext cx="1728720" cy="5047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7"/>
          <p:cNvSpPr/>
          <p:nvPr/>
        </p:nvSpPr>
        <p:spPr>
          <a:xfrm>
            <a:off x="1692360" y="5229360"/>
            <a:ext cx="1081080" cy="288720"/>
          </a:xfrm>
          <a:prstGeom prst="ellipse">
            <a:avLst/>
          </a:prstGeom>
          <a:noFill/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rcRect l="13222" t="8390" r="15207" b="31698"/>
          <a:stretch/>
        </p:blipFill>
        <p:spPr>
          <a:xfrm>
            <a:off x="684360" y="1365120"/>
            <a:ext cx="8135640" cy="5448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404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Arial"/>
                <a:ea typeface="Arial"/>
              </a:rPr>
              <a:t>NVO JAUNIEŠU KONSULTĀCIJ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200" spc="-1" strike="noStrike">
                <a:solidFill>
                  <a:srgbClr val="ff6600"/>
                </a:solidFill>
                <a:latin typeface="Arial Narrow"/>
              </a:rPr>
              <a:t>www.prakse.lv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8360" y="1557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Saprast, kāda informācija nepieciešama, lai plānotu savu karjer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Apzināties veidus, kā iegūt nepieciešamo informāciju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izglītības iespējām Latvijā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Iepazīties ar dažādiem informācijas avotiem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NFORMATĪVIE RESURSI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1413000"/>
            <a:ext cx="9144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darbinātības valsts aģentūra </a:t>
            </a:r>
            <a:r>
              <a:rPr b="0" lang="lv-LV" sz="3200" spc="-1" strike="noStrike" u="sng">
                <a:solidFill>
                  <a:srgbClr val="006a7b"/>
                </a:solidFill>
                <a:uFillTx/>
                <a:latin typeface="Calibri"/>
              </a:rPr>
              <a:t>www.nva.gov.lv/pkiva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rivātie personāla atlases uzņēmumi, piemēram, www.cv.lv 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www.workingday.lv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74304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u un profesionālās asociāciju mājas lapas, profesionāļu forum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5"/>
          <p:cNvSpPr/>
          <p:nvPr/>
        </p:nvSpPr>
        <p:spPr>
          <a:xfrm>
            <a:off x="0" y="40464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NODARBINĀTĪBAS VALSTS AĢEN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ff6600"/>
                </a:solidFill>
                <a:latin typeface="Arial Narrow"/>
              </a:rPr>
              <a:t>http://www.nva.gov.lv/pkiva/index.php?cid=1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10459" t="7039" r="11516" b="7113"/>
          <a:stretch/>
        </p:blipFill>
        <p:spPr>
          <a:xfrm>
            <a:off x="1835280" y="1557360"/>
            <a:ext cx="5978520" cy="5261040"/>
          </a:xfrm>
          <a:prstGeom prst="rect">
            <a:avLst/>
          </a:prstGeom>
          <a:ln w="0">
            <a:noFill/>
          </a:ln>
        </p:spPr>
      </p:pic>
      <p:sp>
        <p:nvSpPr>
          <p:cNvPr id="160" name="Oval 4"/>
          <p:cNvSpPr/>
          <p:nvPr/>
        </p:nvSpPr>
        <p:spPr>
          <a:xfrm>
            <a:off x="4067280" y="2205000"/>
            <a:ext cx="1728720" cy="50328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rcRect l="9821" t="8393" r="11610" b="9353"/>
          <a:stretch/>
        </p:blipFill>
        <p:spPr>
          <a:xfrm>
            <a:off x="4157640" y="1413000"/>
            <a:ext cx="4986360" cy="4176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"/>
          <p:cNvPicPr/>
          <p:nvPr/>
        </p:nvPicPr>
        <p:blipFill>
          <a:blip r:embed="rId2"/>
          <a:srcRect l="11613" t="9331" r="12912" b="41941"/>
          <a:stretch/>
        </p:blipFill>
        <p:spPr>
          <a:xfrm>
            <a:off x="0" y="3976560"/>
            <a:ext cx="5580000" cy="288144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179280" y="4046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ERSONĀLA ATLASES UZŅĒMU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CV.LV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1" lang="lv-LV" sz="2800" spc="-1" strike="noStrike">
                <a:solidFill>
                  <a:srgbClr val="800080"/>
                </a:solidFill>
                <a:latin typeface="Calibri"/>
              </a:rPr>
              <a:t>WWW.WORKINGDAY.L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6" name="Picture 6" descr="academics,commencements,graduations,mortarboards,special occasions,tassels,textbooks"/>
          <p:cNvPicPr/>
          <p:nvPr/>
        </p:nvPicPr>
        <p:blipFill>
          <a:blip r:embed="rId1"/>
          <a:stretch/>
        </p:blipFill>
        <p:spPr>
          <a:xfrm>
            <a:off x="3924360" y="4437000"/>
            <a:ext cx="1582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84280"/>
            <a:ext cx="84960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1. Iev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2. Kāda informācija nepieciešama, lai plānotu savu karj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3. Kur un kā iegūt nepieciešam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4. Ko darīt ar apkopoto informāci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5. Izglītības sistēma Latvij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6. Informatīvie resursi internet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1f497d"/>
                </a:solidFill>
                <a:latin typeface="Arial"/>
              </a:rPr>
              <a:t>7. Kopsavilk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IEVADS</a:t>
            </a:r>
            <a:endParaRPr b="0" lang="en-US" sz="3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varīgi atcerēties: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s pieejamība sniedz iespēj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pieņemt vislabāko lēmum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tač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formācijai jābūt precīzai, plašai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un atbilstošai izvirzītajam mērķi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97" name="Picture 7" descr="1281091899-7855"/>
          <p:cNvPicPr/>
          <p:nvPr/>
        </p:nvPicPr>
        <p:blipFill>
          <a:blip r:embed="rId1"/>
          <a:stretch/>
        </p:blipFill>
        <p:spPr>
          <a:xfrm>
            <a:off x="7812000" y="5013360"/>
            <a:ext cx="99072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1979640" y="1916280"/>
            <a:ext cx="4680000" cy="4176720"/>
          </a:xfrm>
          <a:prstGeom prst="rect">
            <a:avLst/>
          </a:prstGeom>
          <a:ln w="0">
            <a:noFill/>
          </a:ln>
        </p:spPr>
      </p:pic>
      <p:sp>
        <p:nvSpPr>
          <p:cNvPr id="99" name="Rounded Rectangular Callout 7"/>
          <p:cNvSpPr/>
          <p:nvPr/>
        </p:nvSpPr>
        <p:spPr>
          <a:xfrm>
            <a:off x="108000" y="1700280"/>
            <a:ext cx="1800000" cy="1657440"/>
          </a:xfrm>
          <a:prstGeom prst="wedgeRoundRectCallout">
            <a:avLst>
              <a:gd name="adj1" fmla="val 96569"/>
              <a:gd name="adj2" fmla="val 40171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NTER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L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ĒRT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8"/>
          <p:cNvSpPr/>
          <p:nvPr/>
        </p:nvSpPr>
        <p:spPr>
          <a:xfrm>
            <a:off x="6659640" y="1700280"/>
            <a:ext cx="2305080" cy="1800000"/>
          </a:xfrm>
          <a:prstGeom prst="wedgeRoundRectCallout">
            <a:avLst>
              <a:gd name="adj1" fmla="val -85666"/>
              <a:gd name="adj2" fmla="val 3405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RAS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ZINĀŠ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RAKSTURA ĪPAŠĪB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SELĪBAS STĀVOK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IĀLĀS IESPĒJ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9"/>
          <p:cNvSpPr/>
          <p:nvPr/>
        </p:nvSpPr>
        <p:spPr>
          <a:xfrm>
            <a:off x="1187280" y="4869000"/>
            <a:ext cx="1800360" cy="1655640"/>
          </a:xfrm>
          <a:prstGeom prst="wedgeRoundRectCallout">
            <a:avLst>
              <a:gd name="adj1" fmla="val 94171"/>
              <a:gd name="adj2" fmla="val -49939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IEPRASĪJUMS DARBA TIRG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DA INFORMĀCIJA NEPIECIEŠAMA, LAI PLĀNOTU SAVU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mani interesē tas, kas man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4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rime scenes,evidence,fingerprints,government,magnifying glasses,detectives,investigations,clues"/>
          <p:cNvPicPr/>
          <p:nvPr/>
        </p:nvPicPr>
        <p:blipFill>
          <a:blip r:embed="rId1"/>
          <a:stretch/>
        </p:blipFill>
        <p:spPr>
          <a:xfrm>
            <a:off x="6948360" y="3860640"/>
            <a:ext cx="179892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PROFESIJ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24000" y="1341360"/>
            <a:ext cx="8640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dara šīs profesijas pārstāvji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apstākļos jāstrādā (telpas, darba stundas, instrumenti, ietekme uz veselību u.tml.)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jāzina un jāpro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sniedz gandarījumu un kādas ir “ēnas puses”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un kurās mācību iestādēs var ap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os uzņēmumos un organizācijās var strādā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izaugsmes iespē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profesij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s ir iespējamais atalgojum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pieprasīta darba tirgū tā ir/bū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tretch/>
        </p:blipFill>
        <p:spPr>
          <a:xfrm>
            <a:off x="7380360" y="465300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7"/>
          <p:cNvSpPr/>
          <p:nvPr/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UZZINĀT PAR IZGLĪTĪBAS IESPĒJĀ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920" y="1341000"/>
            <a:ext cx="8640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ās mācību iestādēs var apgūt interesējošo profesij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“radniecīgās” specialitāte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u profesionālo kvalifikāciju var iegūt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nepieciešams, lai uzsāktu mācīb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 varēs turpināt izglītību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ur atrodas mācību iestāde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Cik ilgi jāmācā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Mācību maksa, budžeta vietas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Prakses iespējas mācību laikā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Darba iespējas pēc mācībām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1" name="Picture 5" descr="academic,education,funnels,knowledge,learning,men,metaphors,people,students,training"/>
          <p:cNvPicPr/>
          <p:nvPr/>
        </p:nvPicPr>
        <p:blipFill>
          <a:blip r:embed="rId1"/>
          <a:srcRect l="30248" t="0" r="30224" b="0"/>
          <a:stretch/>
        </p:blipFill>
        <p:spPr>
          <a:xfrm>
            <a:off x="7421400" y="1916280"/>
            <a:ext cx="111132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TU VARI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i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i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Pieņem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lēmumu</a:t>
            </a:r>
            <a:r>
              <a:rPr b="0" lang="lv-LV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14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16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2-11-12T07:35:18Z</dcterms:modified>
  <cp:revision>241</cp:revision>
  <dc:subject/>
  <dc:title>Slide 1</dc:title>
</cp:coreProperties>
</file>